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projctor.wav" ContentType="audio/x-wav"/>
  <Override PartName="/ppt/media/image21.png" ContentType="image/png"/>
  <Override PartName="/ppt/media/image3.png" ContentType="image/png"/>
  <Override PartName="/ppt/media/gunshot.wav" ContentType="audio/x-wav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carbrake.wav" ContentType="audio/x-wav"/>
  <Override PartName="/ppt/media/image9.png" ContentType="image/png"/>
  <Override PartName="/ppt/media/image5.png" ContentType="image/png"/>
  <Override PartName="/ppt/media/whoosh.wav" ContentType="audio/x-wav"/>
  <Override PartName="/ppt/media/image28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27.png" ContentType="image/png"/>
  <Override PartName="/ppt/media/drumroll.wav" ContentType="audio/x-wav"/>
  <Override PartName="/ppt/media/image1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7C6-7A38-45BE-8903-C126D9BC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974-0909-46BC-967C-1650CB3E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FCF-2BD1-4F1D-9029-2F14B212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26F-BFF9-4568-9CA0-FD19462F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884-FF8B-4716-9F29-14C5225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08BB-0E3F-4B21-B8D3-F68D576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21A-BD4B-4509-9596-4C1F652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8B50-18AD-4059-B572-2FFE5A2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3252-1BFE-4647-BDC7-48E79AF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09A-7F37-4504-9A26-82A08ED9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D2FF-DE20-4672-9B67-0EB530F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D94-FEFF-4E97-8DAB-E2FE0AD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D599-C09E-4CEB-8E61-F3ED3CC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AB31-A668-459E-8D72-B284639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EBD1-D2B2-4E7B-A3CE-3ABA1FB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3A4A-4EBC-4679-B4C5-7337B0C5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BD08-72D5-492D-BA6B-F71C7CF8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4DB-1D58-4483-9AB8-E384AEF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766-7E8A-4450-A084-251A877E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EC3-5FA1-4C2E-AEB0-EEDDCCB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3CD-EF9D-40D1-A4A5-42976F2C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3C5-BC5F-447B-A07A-0661719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AD5-F404-4281-B4A9-87ACDA52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F40-EA38-4F2C-A788-0C8EDF0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C6D0-E48E-450E-9D7B-6DEA21A1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FB4-8777-45D5-A1A5-AB51C858F5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3733560"/>
            <a:ext cx="8915400" cy="144756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b7e7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300" spc="-1" strike="noStrike">
                <a:solidFill>
                  <a:srgbClr val="b7e7ff"/>
                </a:solidFill>
                <a:latin typeface="Arial"/>
              </a:rPr>
              <a:t>Părţi  de  vorbire</a:t>
            </a:r>
            <a:endParaRPr b="0" lang="en-US" sz="93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9080" y="15228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Bratocea Ciuca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6172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4880" y="3352320"/>
            <a:ext cx="4346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lângă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pe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şi 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5228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cc6600"/>
                </a:solidFill>
                <a:latin typeface="Arial"/>
              </a:rPr>
              <a:t>Adaugă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8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cc6600"/>
                </a:solidFill>
                <a:latin typeface="Arial"/>
              </a:rPr>
              <a:t>cuvinte  de  legătură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9400" y="152280"/>
            <a:ext cx="8842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99"/>
                </a:solidFill>
                <a:latin typeface="Arial"/>
              </a:rPr>
              <a:t>Tipuri  de  cuvinte</a:t>
            </a:r>
            <a:r>
              <a:rPr b="0" lang="ro-RO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ffcc00"/>
                </a:solidFill>
                <a:latin typeface="Arial"/>
              </a:rPr>
              <a:t>(după  ce  exprimă)</a:t>
            </a:r>
            <a:r>
              <a:rPr b="0" lang="ro-RO" sz="4400" spc="-1" strike="noStrike">
                <a:solidFill>
                  <a:srgbClr val="ffcc00"/>
                </a:solidFill>
                <a:latin typeface="Arial"/>
              </a:rPr>
              <a:t> :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4651200" cy="4876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lucruri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fiinţe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însuşiri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6000" spc="-1" strike="noStrike">
                <a:solidFill>
                  <a:srgbClr val="ff3300"/>
                </a:solidFill>
                <a:latin typeface="Arial"/>
              </a:rPr>
              <a:t>fenomene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370560"/>
            <a:ext cx="91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cc00"/>
                </a:solidFill>
                <a:latin typeface="Arial"/>
              </a:rPr>
              <a:t>Pele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752480"/>
            <a:ext cx="46512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acţiuni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nune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3300"/>
                </a:solidFill>
                <a:latin typeface="Arial"/>
              </a:rPr>
              <a:t>înlocuiesc  nume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cuvinte  de  legătură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727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cc00"/>
                </a:solidFill>
                <a:latin typeface="Arial"/>
              </a:rPr>
              <a:t>Cuvintel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276720"/>
            <a:ext cx="4727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cc00"/>
                </a:solidFill>
                <a:latin typeface="Arial"/>
              </a:rPr>
              <a:t>Cuvintel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9250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fac  parte  din  vorbirea  noastră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sunt  părţi  de  vorbire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9933"/>
                </a:solidFill>
                <a:latin typeface="Arial"/>
              </a:rPr>
              <a:t>Adaugă  cuvinte  care  denumesc</a:t>
            </a:r>
            <a:r>
              <a:rPr b="0" lang="ro-RO" sz="8000" spc="-1" strike="noStrike">
                <a:solidFill>
                  <a:srgbClr val="ff9933"/>
                </a:solidFill>
                <a:latin typeface="Arial"/>
              </a:rPr>
              <a:t>  lucruri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754200"/>
            <a:ext cx="3124080" cy="219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010280" y="2971800"/>
            <a:ext cx="142236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553080" y="914400"/>
            <a:ext cx="2210040" cy="179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52280" y="4495680"/>
            <a:ext cx="177804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905120" y="3962520"/>
            <a:ext cx="1635120" cy="167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895480" y="5278320"/>
            <a:ext cx="2362320" cy="142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5337000" y="4648320"/>
            <a:ext cx="1597320" cy="213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962520" y="2133720"/>
            <a:ext cx="2819160" cy="267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7078680" y="5342040"/>
            <a:ext cx="198900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6600"/>
                </a:solidFill>
                <a:latin typeface="Arial"/>
              </a:rPr>
              <a:t>Adaugă  cuvinte  care  denumesc</a:t>
            </a:r>
            <a:r>
              <a:rPr b="0" lang="ro-RO" sz="9600" spc="-1" strike="noStrike">
                <a:solidFill>
                  <a:srgbClr val="336600"/>
                </a:solidFill>
                <a:latin typeface="Arial"/>
              </a:rPr>
              <a:t>  fiinţe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2831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0400" y="1998720"/>
            <a:ext cx="4191120" cy="35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934320" y="914400"/>
            <a:ext cx="2057400" cy="203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52280" y="914400"/>
            <a:ext cx="1650960" cy="373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77080" y="39625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895480" y="4648320"/>
            <a:ext cx="3886200" cy="213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2437920"/>
            <a:ext cx="6632640" cy="366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c5ff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009900"/>
                </a:solidFill>
                <a:latin typeface="Arial"/>
              </a:rPr>
              <a:t>ver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ff66ff"/>
                </a:solidFill>
                <a:latin typeface="Arial"/>
              </a:rPr>
              <a:t>scu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ee941c"/>
                </a:solidFill>
                <a:latin typeface="Arial"/>
              </a:rPr>
              <a:t>inteligen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ee941c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înflorit</a:t>
            </a:r>
            <a:r>
              <a:rPr b="0" lang="ro-RO" sz="6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7632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3300"/>
                </a:solidFill>
                <a:latin typeface="Arial"/>
              </a:rPr>
              <a:t>Adaugă  cuvinte  care  arată</a:t>
            </a:r>
            <a:r>
              <a:rPr b="0" lang="ro-RO" sz="8000" spc="-1" strike="noStrike">
                <a:solidFill>
                  <a:srgbClr val="ff3300"/>
                </a:solidFill>
                <a:latin typeface="Arial"/>
              </a:rPr>
              <a:t>  însuşiri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657600"/>
            <a:ext cx="8815680" cy="274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200" spc="-1" strike="noStrike">
                <a:solidFill>
                  <a:srgbClr val="17ffc2"/>
                </a:solidFill>
                <a:latin typeface="Arial"/>
              </a:rPr>
              <a:t>tornade</a:t>
            </a:r>
            <a:r>
              <a:rPr b="0" lang="ro-RO" sz="8000" spc="-1" strike="noStrike">
                <a:solidFill>
                  <a:srgbClr val="17ffc2"/>
                </a:solidFill>
                <a:latin typeface="Arial"/>
              </a:rPr>
              <a:t>, </a:t>
            </a:r>
            <a:r>
              <a:rPr b="0" lang="ro-RO" sz="8200" spc="-1" strike="noStrike">
                <a:solidFill>
                  <a:srgbClr val="996633"/>
                </a:solidFill>
                <a:latin typeface="Arial"/>
              </a:rPr>
              <a:t>ninsoare</a:t>
            </a:r>
            <a:r>
              <a:rPr b="0" lang="ro-RO" sz="8000" spc="-1" strike="noStrike">
                <a:solidFill>
                  <a:srgbClr val="996633"/>
                </a:solidFill>
                <a:latin typeface="Arial"/>
              </a:rPr>
              <a:t>,  </a:t>
            </a:r>
            <a:r>
              <a:rPr b="0" lang="ro-RO" sz="8400" spc="-1" strike="noStrike">
                <a:solidFill>
                  <a:srgbClr val="ff66ff"/>
                </a:solidFill>
                <a:latin typeface="Arial"/>
              </a:rPr>
              <a:t>nori</a:t>
            </a:r>
            <a:r>
              <a:rPr b="0" lang="ro-RO" sz="8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o-RO" sz="80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ro-RO" sz="96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8763120" cy="2286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6600"/>
                </a:solidFill>
                <a:latin typeface="Arial"/>
              </a:rPr>
              <a:t>Adaugă  cuvinte  care  denumesc</a:t>
            </a:r>
            <a:r>
              <a:rPr b="0" lang="ro-RO" sz="80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336600"/>
                </a:solidFill>
                <a:latin typeface="Arial"/>
              </a:rPr>
              <a:t>fenomene  ale  naturii</a:t>
            </a:r>
            <a:r>
              <a:rPr b="0" lang="ro-RO" sz="8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51160" y="2057400"/>
            <a:ext cx="271008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52280" y="380880"/>
            <a:ext cx="2335320" cy="367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15228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Adaugă  cuvinte  care  exprimă</a:t>
            </a:r>
            <a:r>
              <a:rPr b="0" lang="ro-RO" sz="8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ro-RO" sz="7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o-RO" sz="9600" spc="-1" strike="noStrike">
                <a:solidFill>
                  <a:srgbClr val="ff00ff"/>
                </a:solidFill>
                <a:latin typeface="Arial"/>
              </a:rPr>
              <a:t>acţiuni</a:t>
            </a:r>
            <a:r>
              <a:rPr b="0" lang="ro-RO" sz="8800" spc="-1" strike="noStrike">
                <a:solidFill>
                  <a:srgbClr val="ff00ff"/>
                </a:solidFill>
                <a:latin typeface="Arial"/>
              </a:rPr>
              <a:t>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51560" y="533520"/>
            <a:ext cx="341784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2004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505320" y="5029200"/>
            <a:ext cx="2133360" cy="137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6934320" y="547704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39760" y="3276720"/>
            <a:ext cx="6632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tu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dânsul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dumneavoastră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522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660066"/>
                </a:solidFill>
                <a:latin typeface="Arial"/>
              </a:rPr>
              <a:t>Adaugă  cuvinte  care  </a:t>
            </a:r>
            <a:r>
              <a:rPr b="0" lang="ro-RO" sz="8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ro-RO" sz="7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7800" spc="-1" strike="noStrike">
                <a:solidFill>
                  <a:srgbClr val="660066"/>
                </a:solidFill>
                <a:latin typeface="Arial"/>
              </a:rPr>
              <a:t>înlocuiesc  nume.</a:t>
            </a:r>
            <a:endParaRPr b="0" lang="en-US" sz="7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cc6600"/>
                </a:solidFill>
                <a:latin typeface="Arial"/>
              </a:rPr>
              <a:t>Adaugă  cuvinte  care   indică </a:t>
            </a:r>
            <a:r>
              <a:rPr b="0" lang="ro-RO" sz="96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8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9600" spc="-1" strike="noStrike">
                <a:solidFill>
                  <a:srgbClr val="cc6600"/>
                </a:solidFill>
                <a:latin typeface="Arial"/>
              </a:rPr>
              <a:t>numere</a:t>
            </a:r>
            <a:r>
              <a:rPr b="0" lang="ro-RO" sz="8800" spc="-1" strike="noStrike">
                <a:solidFill>
                  <a:srgbClr val="cc6600"/>
                </a:solidFill>
                <a:latin typeface="Arial"/>
              </a:rPr>
              <a:t>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2517480" cy="297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9880" y="2736720"/>
            <a:ext cx="2530440" cy="396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7086600" y="3657600"/>
            <a:ext cx="1828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23 000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0:21:31Z</dcterms:created>
  <dc:creator>Adina Livia</dc:creator>
  <dc:description/>
  <dc:language>en-US</dc:language>
  <cp:lastModifiedBy>IULIA</cp:lastModifiedBy>
  <dcterms:modified xsi:type="dcterms:W3CDTF">2009-09-21T14:57:35Z</dcterms:modified>
  <cp:revision>53</cp:revision>
  <dc:subject/>
  <dc:title>parte  de  vorbire</dc:title>
</cp:coreProperties>
</file>